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83CC2A-1959-4389-9FF6-DD435B9A6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E71612-D9F2-4D96-A434-C29C7A7E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onor Coordination Forum  meeting, 8 December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FLOODS RECOVERY SUPPORT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Head of Operation section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elegation to Bosnia and Herzegovin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ors' conference in Brussels, July 2014: EUR 8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First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EU Flood Recovery Programme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mplemented by UNDP – EUR 42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econd package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Special Measure on flood recove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flood risk management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includ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allocation – EUR 41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lti-country – EUR 24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4.640 dwell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9 public administration faciliti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 of 119 education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onstruction/rehabilitation of 6 health care facilities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habilitation of 114 critical community infrastructu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Water and sanitation interven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ousing Risk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E and agricultural support for creation of 5.547 jo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Flood Recovery Programme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flood protection and water management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ousing Interventions, EUR 1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trengthening SME competitiveness, EUR 9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indirect management with GiZ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Protection, EUR 2.5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Support to Civil Society in awareness raising, advocac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nd recovery assistance to affected areas, EUR 2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EU Special Measure on floods in 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gional reconstruction and improvement of flo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tection infrastructure in the Sava river basin in Bi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Serbia, EUR 20 mill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vention, preparedness and response to floods i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stern Balkans and Turkey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direct management by ECHO), EUR 4 mill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Special Measure on floods – multi-country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ird call for propos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ross Border Cooperation Program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erb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cations 2012 and 20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lion in to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CBC Programme BiH - Serbi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THANK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EU pledge for Bosnia and</a:t>
            </a:r>
            <a:br>
              <a:rPr sz="1800"/>
            </a:br>
            <a:r>
              <a:rPr b="1" i="1" lang="en-GB" sz="1800" spc="-1" strike="noStrike">
                <a:solidFill>
                  <a:srgbClr val="003c68"/>
                </a:solidFill>
                <a:latin typeface="Arial"/>
              </a:rPr>
              <a:t>Hercegovina flood recovery 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Massimo MINA</cp:lastModifiedBy>
  <dcterms:modified xsi:type="dcterms:W3CDTF">2015-12-08T07:14:20Z</dcterms:modified>
  <cp:revision>859</cp:revision>
  <dc:subject/>
  <dc:title>Folie 1</dc:title>
</cp:coreProperties>
</file>